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131-FAAD-46C7-B290-A405B988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4AB-1AFF-4BD5-9498-35053A89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0B2-0EE7-4712-8F59-96206D62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9D3-F190-4876-A927-7037467F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C47-725F-4EB8-A4B7-3BD22CAD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A29-02D4-422F-8787-ABCCF057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DBB-F868-469C-AA9A-0AAB20BD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C2F-3E69-4C42-B3B8-094821B5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656-1FA0-45BA-B7A8-19796966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BA8-4EDD-46B5-BEF0-65307C35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E63-CFAE-4253-ADDD-04E4619C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4DF-F824-47FD-B8DC-E6CBD542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BA5D-E4E8-48F0-88CB-7D158A551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64008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ory of Private Buckmin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zi soldier on the wester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ovan Robertson, Chris Harrell, Zach Mog, Connor Mckn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Fallschirmjager "/>
          <p:cNvPicPr/>
          <p:nvPr/>
        </p:nvPicPr>
        <p:blipFill>
          <a:blip r:embed="rId1"/>
          <a:stretch/>
        </p:blipFill>
        <p:spPr>
          <a:xfrm>
            <a:off x="5629320" y="152280"/>
            <a:ext cx="32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g4.footnote.com/img/thumbnail/51819294/400/400/0_0_364_311.jpg"/>
          <p:cNvPicPr/>
          <p:nvPr/>
        </p:nvPicPr>
        <p:blipFill>
          <a:blip r:embed="rId1"/>
          <a:stretch/>
        </p:blipFill>
        <p:spPr>
          <a:xfrm>
            <a:off x="0" y="0"/>
            <a:ext cx="434340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historywarsweapons.com/wp-content/uploads/image/SeptemberCampaign4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40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www.annefrankguide.net/en-GB/content/tanks.jpg"/>
          <p:cNvPicPr/>
          <p:nvPr/>
        </p:nvPicPr>
        <p:blipFill>
          <a:blip r:embed="rId3"/>
          <a:stretch/>
        </p:blipFill>
        <p:spPr>
          <a:xfrm>
            <a:off x="0" y="403848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www.schoolshistory.org.uk/EuropeatWar/images/dfi0743p.jpg"/>
          <p:cNvPicPr/>
          <p:nvPr/>
        </p:nvPicPr>
        <p:blipFill>
          <a:blip r:embed="rId4"/>
          <a:stretch/>
        </p:blipFill>
        <p:spPr>
          <a:xfrm>
            <a:off x="4343400" y="4038480"/>
            <a:ext cx="4800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content.artofmanliness.com/uploads/2009/12/stalin.jpg"/>
          <p:cNvPicPr/>
          <p:nvPr/>
        </p:nvPicPr>
        <p:blipFill>
          <a:blip r:embed="rId1"/>
          <a:stretch/>
        </p:blipFill>
        <p:spPr>
          <a:xfrm>
            <a:off x="0" y="0"/>
            <a:ext cx="934092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upload.wikimedia.org/wikipedia/commons/archive/5/58/20050210044215!Battle_of_Stalingra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uncp.edu/home/rwb/stalingr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www.2iemeguerre.com/historique/images/stalingrad.jpg"/>
          <p:cNvPicPr/>
          <p:nvPr/>
        </p:nvPicPr>
        <p:blipFill>
          <a:blip r:embed="rId2"/>
          <a:stretch/>
        </p:blipFill>
        <p:spPr>
          <a:xfrm>
            <a:off x="0" y="3419640"/>
            <a:ext cx="5715000" cy="343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tqnyc.org/2007/NYC073871/battle_images/STALINGRAD2.jpg"/>
          <p:cNvPicPr/>
          <p:nvPr/>
        </p:nvPicPr>
        <p:blipFill>
          <a:blip r:embed="rId3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Early Fallschirmjäger para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Last preparations "/>
          <p:cNvPicPr/>
          <p:nvPr/>
        </p:nvPicPr>
        <p:blipFill>
          <a:blip r:embed="rId1"/>
          <a:stretch/>
        </p:blipFill>
        <p:spPr>
          <a:xfrm>
            <a:off x="0" y="0"/>
            <a:ext cx="45277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bsprung auf Kreta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allschirmjager in Crete"/>
          <p:cNvPicPr/>
          <p:nvPr/>
        </p:nvPicPr>
        <p:blipFill>
          <a:blip r:embed="rId3"/>
          <a:stretch/>
        </p:blipFill>
        <p:spPr>
          <a:xfrm>
            <a:off x="4381560" y="3429000"/>
            <a:ext cx="4762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Fallschirmjäger"/>
          <p:cNvPicPr/>
          <p:nvPr/>
        </p:nvPicPr>
        <p:blipFill>
          <a:blip r:embed="rId1"/>
          <a:stretch/>
        </p:blipFill>
        <p:spPr>
          <a:xfrm>
            <a:off x="6413400" y="0"/>
            <a:ext cx="27306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Before the jump"/>
          <p:cNvPicPr/>
          <p:nvPr/>
        </p:nvPicPr>
        <p:blipFill>
          <a:blip r:embed="rId2"/>
          <a:stretch/>
        </p:blipFill>
        <p:spPr>
          <a:xfrm>
            <a:off x="3379680" y="0"/>
            <a:ext cx="30117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Stalingrad"/>
          <p:cNvPicPr/>
          <p:nvPr/>
        </p:nvPicPr>
        <p:blipFill>
          <a:blip r:embed="rId3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burning house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SS-STABSWACH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OLEN 1939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historyguy.com/worldwartwo/german_troops_parade_warsaw_po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wwnorton.com/college/history/ralph/ralimage/36poland.jpg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2:54:30Z</dcterms:created>
  <dc:creator>Information Technology</dc:creator>
  <dc:description/>
  <dc:language>en-US</dc:language>
  <cp:lastModifiedBy>Information Technology</cp:lastModifiedBy>
  <dcterms:modified xsi:type="dcterms:W3CDTF">2010-02-17T12:38:42Z</dcterms:modified>
  <cp:revision>5</cp:revision>
  <dc:subject/>
  <dc:title>The Story of Private Buckminster</dc:title>
</cp:coreProperties>
</file>